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19DD-FE69-45E4-97BA-3216FE1A2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1622A-FA34-4672-8428-FE47DB983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92AD8-3152-4107-A0E8-AA70E0474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E8EC5-5C18-4E1D-8A38-EBF9482FA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AAB4B-C798-47E0-A80B-4477700F2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8ECF4-5743-49DF-8D5B-142FF3EDA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2C02A-DEB1-43B6-8AA9-61492A746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EB0BC-A717-4AF2-B149-DB5252339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1F4F8-33C2-40CB-ABF3-7572EB104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4FCB7-6869-4AD1-AE4A-84A4181F4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7CCA0-0C52-431B-9E15-F6C22C596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D48A7-70E0-4D01-B96A-667ABFA68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7830F7-E8C7-4072-834D-0D331E3CAD9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genda SPM-Jour Fix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92160" y="1371600"/>
            <a:ext cx="771228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sprache change request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5 mi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sprache Projek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opar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r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lysse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-Ci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nelo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ri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/ Organisatorisches / Action Item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16000" y="1346040"/>
          <a:ext cx="8458200" cy="675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58200" cy="67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isks and Actio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1143000"/>
          <a:ext cx="8432640" cy="506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143000"/>
                    <a:ext cx="843264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Siemens-Mitarbeiter</cp:lastModifiedBy>
  <cp:lastPrinted>2003-07-02T13:24:00Z</cp:lastPrinted>
  <dcterms:modified xsi:type="dcterms:W3CDTF">2003-09-26T06:43:10Z</dcterms:modified>
  <cp:revision>81</cp:revision>
  <dc:subject/>
  <dc:title>No Slide Title</dc:title>
</cp:coreProperties>
</file>